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0F2-3FD3-472B-AADF-C9B926B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B51-01D8-4ABA-B9ED-97AB488E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2BA-49B7-4748-8DDB-D940A6FC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751-DA9B-48EF-BE0E-D1B43740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70B-4B12-4F16-920E-DE0946EF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A85-00A9-478A-9786-C7C79AE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5B3-A766-41C8-9EC7-65FF01EC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F19-A6E6-40AC-986A-A589098E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DF6-469E-4FEF-95A9-83F2CAE4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C3D-ED76-4170-81D4-FDDB52E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B15-04AF-4B05-A2C2-3B4FCD0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95D-BA32-40CC-82D9-A506856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60A5-CCFB-4FEB-9793-A37313D7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écrit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ableau 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iquid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tyl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tion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lè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épa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a c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j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jo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rti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ont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e de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autour de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62120" y="914400"/>
            <a:ext cx="76197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Directeur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regarde la cour en souri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né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 du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gné l’indépend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 de pl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’ex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’in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carpement litto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û à l’actio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à l’aff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rome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len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sembl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nettoy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rqu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signif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donn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981080"/>
            <a:ext cx="72392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se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if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de; il n’y 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a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 Id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.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appell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in 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es, 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ymbole doi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action d ’Akro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a reç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ç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a le dr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être édu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esprit de …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î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en tr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seig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matière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ve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auvé par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a cach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iseau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crou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nquill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redev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ra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oqu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spic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endroit secr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r en pièc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dé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“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si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an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« 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eint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retou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qui par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kroman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 lui a refi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no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s Sénégal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our les blan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p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frique francopho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pay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ancophon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Afrique 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urs capita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kar, Sénég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amoussokra, Côte d’Iv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ngui,  Rép. Centrafrici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, 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bat, 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s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5-05T14:12:01Z</dcterms:modified>
  <cp:revision>134</cp:revision>
  <dc:subject/>
  <dc:title>No Slide Title</dc:title>
</cp:coreProperties>
</file>